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Lezione2" id="0">
      <p:sldLst>
        <p:sld r:id="rId3"/>
        <p:sld r:id="rId11"/>
        <p:sld r:id="rId17"/>
        <p:sld r:id="rId19"/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FD7-BB4D-4503-8AC9-A2021B08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708-DC82-4337-B783-F61876BD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4BE-518B-42BF-A7C9-8DAFF95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D40-916D-4028-9760-19931D2A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4C0-0D6A-4EFB-83CA-8CBA3C2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4C4-ADD2-47B3-9A86-4A2228E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653-AF78-4357-9B7F-AEE29DA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E8B-3A7B-4247-BEC6-9875629C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40F-2CA4-4924-BFBB-AE172D5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5E7-A022-4D2B-89C2-7057C32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FC5-C355-4B4C-83F9-B1DCF7B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2D2-5067-4BA1-B97F-A359D56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28E4-5CD4-4BCA-A91C-8097BF05CED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POLITICA DI AUGUST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QUIVOCO DEL POTERE ASSOLUTO CAMUFF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 31 al 23 il sen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elegge ogni anno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conferisce a vita l’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 procons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re  militare ed esecu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conferisce a vita 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stas tribunici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violabilità, diritto di veto, potere legisl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elegg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ifex maximus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re religioso, giurisdizio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DI AUGUSTO IN AMBITO RELIG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arte del suo palazzo sul Palatino divenne pubblica con il santuario a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es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ius August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venivano venerati da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ius August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ì per identificarsi con Augusto -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r patria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sso che veniva venerato anche nelle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hé </a:t>
            </a:r>
            <a:r>
              <a:rPr b="0" i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us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itoli conferiti ad Ottaviano da sena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 SEN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R PATRI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lui che accresce Roma e ne garantisce l’abbondanza (auge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92360" y="2923920"/>
            <a:ext cx="5256000" cy="2305080"/>
          </a:xfrm>
          <a:prstGeom prst="rect">
            <a:avLst/>
          </a:prstGeom>
          <a:solidFill>
            <a:srgbClr val="d1d1f0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ns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titol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ATO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381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À POLITICA DI AUGUSTO :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QUIVOCO DEL POTERE ASSOLUTO CAMUFF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ccia in giù 4"/>
          <p:cNvSpPr/>
          <p:nvPr/>
        </p:nvSpPr>
        <p:spPr>
          <a:xfrm>
            <a:off x="4211640" y="1413000"/>
            <a:ext cx="720720" cy="12240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333399"/>
          </a:solidFill>
          <a:ln w="4248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rsi IL CONSENSO DEI CITTADINI E DEL SE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fine a decenni di guerre civili, garantendo pace e prosperità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ERDITA DELLA LIBERTA’ SARA’ IL PREZZO DA PAGARE PER LA PAX  AUGUST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ò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gli antichi valori su cui si fondava l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 publ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tilizzò molti mezzi di propagand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convincere l’opinione pubblica dell’ineluttabilità del proprio potere (letteratura, arte, epigrafia, numismat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3178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agine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haeum Augus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La Turbie con in primo piano l’iscrizione, oggi molto lacunosa, in cui si proclama la vittoria di Augusto sulle popolazioni alpine, elencate ad una ad 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2122"/>
          <p:cNvPicPr/>
          <p:nvPr/>
        </p:nvPicPr>
        <p:blipFill>
          <a:blip r:embed="rId1"/>
          <a:srcRect l="0" t="0" r="0" b="6512"/>
          <a:stretch/>
        </p:blipFill>
        <p:spPr>
          <a:xfrm>
            <a:off x="4140360" y="1268280"/>
            <a:ext cx="4333680" cy="5402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25092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feo de La Tur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3560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Imp(erato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s(ar)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il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tolatura imper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ente su questo come su moltissimi monumenti ufficiali sparsi in tutto l’impero  ricordava a chiunque che i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deva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endeva da Giulio Cesare divinizz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deva 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ctorita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A2122"/>
          <p:cNvPicPr/>
          <p:nvPr/>
        </p:nvPicPr>
        <p:blipFill>
          <a:blip r:embed="rId2"/>
          <a:srcRect l="0" t="0" r="0" b="6513"/>
          <a:stretch/>
        </p:blipFill>
        <p:spPr>
          <a:xfrm>
            <a:off x="4572000" y="1341360"/>
            <a:ext cx="4703760" cy="5861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feo de La Tur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3322800" cy="45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 gestae divi Augus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tobiografia dell’imperatore, incise in diverse copie e esposte in tutto l’impero per elogiare il suo operato e giustificare il suo pote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mmento del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numentu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ncyranu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copia dell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s gesta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nvenuta ad Ankara, in Turc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be838"/>
          <p:cNvPicPr/>
          <p:nvPr/>
        </p:nvPicPr>
        <p:blipFill>
          <a:blip r:embed="rId1"/>
          <a:stretch/>
        </p:blipFill>
        <p:spPr>
          <a:xfrm>
            <a:off x="4788000" y="1268280"/>
            <a:ext cx="3529080" cy="5310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17928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2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EPIGRAFICI: Le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 gestae divi Augus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67280" y="6165720"/>
            <a:ext cx="3106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a.C. circa (Città del Vaticano, Musei Vatican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6"/>
          <p:cNvSpPr/>
          <p:nvPr/>
        </p:nvSpPr>
        <p:spPr>
          <a:xfrm>
            <a:off x="611280" y="306864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 è qui  rappresentato nella sua funzione di comandante dell’esercito in quanto detent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’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IUM PROCONSOLAR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nonché detentore d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stiti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ment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ATUARIA: l’Augusto di Prima 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Y1119s"/>
          <p:cNvPicPr/>
          <p:nvPr/>
        </p:nvPicPr>
        <p:blipFill>
          <a:blip r:embed="rId1"/>
          <a:stretch/>
        </p:blipFill>
        <p:spPr>
          <a:xfrm>
            <a:off x="5940360" y="1268280"/>
            <a:ext cx="29131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0"/>
            <a:ext cx="341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lto una personificazione de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to di esso vola la quadriga de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ono la quadriga l'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or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 il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entro vi è la scena di  re Fraate IV dei Parti che restituisce le insegne dei Romani prese ai romani durante la sconfitta di Cra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generale romano che le riceve, con ai piedi un cane, è forse Tibe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lati si trovano le personificazioni di due province vinte, la Germania e la Pannonia, dove era intervenuto Tiberio tra il 12e l'8 a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to di esse si trovano due Vittorie a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asso, semisdraiata, si trova 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archeoguida.it/wp-content/uploads/2011/10/Augusto-prima-porta-2.jpg"/>
          <p:cNvPicPr/>
          <p:nvPr/>
        </p:nvPicPr>
        <p:blipFill>
          <a:blip r:embed="rId1"/>
          <a:stretch/>
        </p:blipFill>
        <p:spPr>
          <a:xfrm>
            <a:off x="3429000" y="-76320"/>
            <a:ext cx="5715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CY1120s"/>
          <p:cNvPicPr/>
          <p:nvPr/>
        </p:nvPicPr>
        <p:blipFill>
          <a:blip r:embed="rId1"/>
          <a:srcRect l="0" t="4505" r="0" b="0"/>
          <a:stretch/>
        </p:blipFill>
        <p:spPr>
          <a:xfrm>
            <a:off x="6588000" y="1268280"/>
            <a:ext cx="2116440" cy="5229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156360" y="6281640"/>
            <a:ext cx="325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o I secolo a.C. (Roma, Museo Nazionale Romano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10"/>
          <p:cNvSpPr/>
          <p:nvPr/>
        </p:nvSpPr>
        <p:spPr>
          <a:xfrm>
            <a:off x="179280" y="2492280"/>
            <a:ext cx="6769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a statua di via Labicana Augusto appare in veste d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tifex maximu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rappresentato con il capo velato e un aspetto sen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 pensoso e saggio, come conviene al pontefice massi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ntore della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ATUARIA: l’Augusto Pontif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6308640"/>
            <a:ext cx="7956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Paci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marmo,  lunga 11,63 metri, larga 10,62 metri,  alta 3,68 met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Y1344"/>
          <p:cNvPicPr/>
          <p:nvPr/>
        </p:nvPicPr>
        <p:blipFill>
          <a:blip r:embed="rId1"/>
          <a:stretch/>
        </p:blipFill>
        <p:spPr>
          <a:xfrm>
            <a:off x="1116000" y="1227240"/>
            <a:ext cx="6872400" cy="5154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ARCHITETTONICI: l’Ara Pa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CY1344"/>
          <p:cNvPicPr/>
          <p:nvPr/>
        </p:nvPicPr>
        <p:blipFill>
          <a:blip r:embed="rId1"/>
          <a:stretch/>
        </p:blipFill>
        <p:spPr>
          <a:xfrm>
            <a:off x="4056120" y="1989000"/>
            <a:ext cx="5087880" cy="3816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7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UMENTI ARCHITETTONICI: l’Ara Pa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5"/>
          <p:cNvSpPr/>
          <p:nvPr/>
        </p:nvSpPr>
        <p:spPr>
          <a:xfrm>
            <a:off x="0" y="1413000"/>
            <a:ext cx="40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’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s , Augus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bra la pax da lui ristabilita dopo le guerre civil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 rilievi e nelle decorazioni vengono ripresi i miti della Roma antica (Romolo e Remo, En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elebra una nuova età dell’oro, iniziata con la fine delle guerre civili, che verrà contemporaneamente cantata da Virgi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tangolo 6"/>
          <p:cNvSpPr/>
          <p:nvPr/>
        </p:nvSpPr>
        <p:spPr>
          <a:xfrm>
            <a:off x="0" y="4365720"/>
            <a:ext cx="428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elides Musae, paulo maiora canamus. non omnis arbusta iuvant humilesque myricae; si canimus silvas, silvae sint consule digna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 Cumaei venit iam carminis aetas;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nus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 integro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eclorum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citur </a:t>
            </a:r>
            <a:r>
              <a:rPr b="0" i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am redit et Virgo, redeunt Saturnia regna, iam nova progenies caelo demittitur alt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Bucoliche, IV, 1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legende monet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vano sui titoli assunti dal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p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vano il volto dell’imperatore con caratteristiche e attributi divers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rdavano le sue impre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bravano la costruzione di opere pubb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6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65300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terzio del 29 a.C.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i Augusto, su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agine del nuovo edificio del sena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ia Iul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dicata a Giulio Cesare; sul frontone della curia compare la scritt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(ERATOR) CAESA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e poteva indicare sia il defunto Cesare sia lo stesso Ottav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2130"/>
          <p:cNvPicPr/>
          <p:nvPr/>
        </p:nvPicPr>
        <p:blipFill>
          <a:blip r:embed="rId1"/>
          <a:stretch/>
        </p:blipFill>
        <p:spPr>
          <a:xfrm>
            <a:off x="1258920" y="1773360"/>
            <a:ext cx="6654600" cy="3085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5229360"/>
            <a:ext cx="8677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toforo di Pergamo, del 19-18 a.C.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i Ottaviano Augusto, sul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mmagine del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io circolare di Marte Ult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retto per celebrar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ndetta ottenuta da Augusto per l’uccisione di Cesare con la battaglia di Filippi (42a.C.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insegna legionaria rappresenta la gloria militare del defunto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ato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2129"/>
          <p:cNvPicPr/>
          <p:nvPr/>
        </p:nvPicPr>
        <p:blipFill>
          <a:blip r:embed="rId1"/>
          <a:stretch/>
        </p:blipFill>
        <p:spPr>
          <a:xfrm>
            <a:off x="1042920" y="2205000"/>
            <a:ext cx="6858000" cy="3067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UMISMATICA: le emissioni monetali aug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o Cilnio Mecenate riuniva intorno a sé molti poeti e letterati (Virgilio, Orazio, Properz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esaltava i valori della cultura august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esalta la piccola proprietà terriera , il valore etico dell’agricoltura , come ritorno ai valori de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“labor omnia vincit improbus”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orgich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, 145-1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’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id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elebrano le origini mitiche di Roma e la stirpe Iul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’opera di Properzio e di Livio si esalta la Roma delle origini, come esempio edificante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v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AGANDA PER CREARE LA  CULTURA DEL CONSENS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7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LETTERATUR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l circolo di Mec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 assassinio di Cesare. Antonio fa l’elogio funebre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us Caesar , Skakeape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pertura del testamento risulta che Gaio Giulio Ottaviano è l’erede (figlio della figlia della sorella Giu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e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i tutto al nome che porti!” lo apostrofava così Antonio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erone, Filippiche13,24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 paga le distribuzione  di denaro  alla ple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iene la divinizzazione di Cesare sicché lui diviene Divi Filius ( presagio: com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, con un atto di forza, si impadronisce della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 si affianca ai due consoli mandati contro Ant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nfitto Antonio, morti i due consoli, marcia su Roma e ottiene il consolato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L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II triunvirato (lex Titia) Cicerone ca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Filippi confische ai piccoli proprie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Ottaviano occi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Rivolta organizzata da Lucio fratello di Antonio. Sventata. A Perugia vengono uccisi 330  perugini ma Lucio viene risparm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 di  Brindi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Antonio l’O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posa Ottavia sorella di Ottav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pido l’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ttaviano l’Oc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.campagne in Oriente. Vuole creare un Impero Or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taviano= propaganda apre il tes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Azio Antonio e Cleopatra vengono sconfi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UERRA CIVILE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1d1f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:</a:t>
            </a:r>
            <a:br>
              <a:rPr sz="3600"/>
            </a:br>
            <a:br>
              <a:rPr sz="36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quista del pote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ascita del principato </a:t>
            </a:r>
            <a:br>
              <a:rPr sz="40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ltura del consenso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TTAGLIA DI AZIO (31 A.C.):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O DELL’ETÀ IMP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o si fa conferire tutti i massimi poteri delle istituzioni repubbli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teoria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 public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inua a esistere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eme alle sue magistrature e ai suoi organis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 di fa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tavi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e poteri del tutto simili a quell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 mon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rId1" action="ppaction://hlinksldjump"/>
          </p:cNvPr>
          <p:cNvSpPr/>
          <p:nvPr/>
        </p:nvSpPr>
        <p:spPr>
          <a:xfrm>
            <a:off x="831708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20:47Z</dcterms:created>
  <dc:creator>Chiara</dc:creator>
  <dc:description/>
  <dc:language>en-US</dc:language>
  <cp:lastModifiedBy>pussia</cp:lastModifiedBy>
  <dcterms:modified xsi:type="dcterms:W3CDTF">2012-11-08T22:51:35Z</dcterms:modified>
  <cp:revision>29</cp:revision>
  <dc:subject/>
  <dc:title>La propaganda augustea</dc:title>
</cp:coreProperties>
</file>